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2F5-D78E-4D03-AF5F-9BE88DC5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F80-F89A-4FD3-B20C-822D014B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590-FF51-427E-907D-D5280C15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360-6E69-493B-B1BB-FA6BB920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EFB-8954-426E-80E1-BD9DC54B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475-4EE6-4BE8-AFF9-CE37A457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220-8713-4AA4-9229-D4850EAD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39F-AD5E-409A-9935-C7ACF9C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9F9-C0D1-47E1-9E6E-7D824957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808-A99B-42EE-AFBE-E709732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2E2-CE0A-45A9-88AB-1E0A480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BA7-3453-423D-91B5-009E57F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FD08-B399-46A9-A628-91CEEE91B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Reassessment9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Reassessment10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Reassessment1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Reassessment1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Reassessment1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Reassessment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Reassessment3.jpg"/>
          <p:cNvPicPr/>
          <p:nvPr/>
        </p:nvPicPr>
        <p:blipFill>
          <a:blip r:embed="rId1"/>
          <a:stretch/>
        </p:blipFill>
        <p:spPr>
          <a:xfrm>
            <a:off x="752400" y="82872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Reassessment4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Reassessment5.jpg"/>
          <p:cNvPicPr/>
          <p:nvPr/>
        </p:nvPicPr>
        <p:blipFill>
          <a:blip r:embed="rId1"/>
          <a:stretch/>
        </p:blipFill>
        <p:spPr>
          <a:xfrm>
            <a:off x="757080" y="819000"/>
            <a:ext cx="762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Reassessment6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Reassessment7.jpg"/>
          <p:cNvPicPr/>
          <p:nvPr/>
        </p:nvPicPr>
        <p:blipFill>
          <a:blip r:embed="rId1"/>
          <a:stretch/>
        </p:blipFill>
        <p:spPr>
          <a:xfrm>
            <a:off x="781200" y="838080"/>
            <a:ext cx="75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Reassessment8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3:08Z</dcterms:created>
  <dc:creator>zcui</dc:creator>
  <dc:description/>
  <dc:language>en-US</dc:language>
  <cp:lastModifiedBy>rbalne</cp:lastModifiedBy>
  <dcterms:modified xsi:type="dcterms:W3CDTF">2009-08-12T13:57:34Z</dcterms:modified>
  <cp:revision>1</cp:revision>
  <dc:subject/>
  <dc:title>TRAC</dc:title>
</cp:coreProperties>
</file>